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6BFF8-F435-4DA6-A6E7-7021593B8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48FB9-24AD-4ADE-B1F8-0211AAC6C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83BE1-E3E0-4EFB-8F7F-F89DFBF00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36C95-B306-4EF6-9CA5-6E129FAD7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9C819-D929-4AC3-81AE-7DFB1C961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5058E-DAB8-4428-BC8A-B9B906770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88B34-8EDF-4B58-8F8A-EE6E14193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FBBA5-995C-4EF9-AAAC-D3D115A98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3C83E-3E86-4C3E-8AF2-A1B31825E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0DE68-98AF-4256-AD87-C76AA39B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8C64D-D0CB-468D-95E5-900032CDC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523F-AFEF-4FD3-8756-0207169EC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E2BF4-4CB5-410E-8CB7-F9D08161E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611280" y="260280"/>
            <a:ext cx="7772400" cy="6048360"/>
            <a:chOff x="611280" y="260280"/>
            <a:chExt cx="7772400" cy="6048360"/>
          </a:xfrm>
        </p:grpSpPr>
        <p:pic>
          <p:nvPicPr>
            <p:cNvPr id="42" name="" descr=""/>
            <p:cNvPicPr/>
            <p:nvPr/>
          </p:nvPicPr>
          <p:blipFill>
            <a:blip r:embed="rId2"/>
            <a:stretch/>
          </p:blipFill>
          <p:spPr>
            <a:xfrm>
              <a:off x="611280" y="260280"/>
              <a:ext cx="7772400" cy="6048360"/>
            </a:xfrm>
            <a:prstGeom prst="rect">
              <a:avLst/>
            </a:prstGeom>
            <a:ln w="0">
              <a:noFill/>
            </a:ln>
          </p:spPr>
        </p:pic>
        <p:sp>
          <p:nvSpPr>
            <p:cNvPr id="43" name=""/>
            <p:cNvSpPr txBox="1"/>
            <p:nvPr/>
          </p:nvSpPr>
          <p:spPr>
            <a:xfrm>
              <a:off x="611280" y="260280"/>
              <a:ext cx="7772400" cy="60483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219320" y="838080"/>
            <a:ext cx="7238880" cy="4192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ms race in which all the major powers were involved contributed to the sense that war was bound to come, and so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publicly the arms race was justified to prevent war, no government had in fact been deterred from arming by the programmes of their rivals, but rather increased the pace of their own armament production.</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James Joll, Origins of the First World War, 1992</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d Ben Walsh pp. 4-7 The Allianc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swer question 1 on P.5</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swer questions 1-5 pp. 6-7</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wo or more countries agree to help out each 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signing these agreements are known as all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2 – Austria-Hungary, Germany and Italy sign the Triple Alliance become know as the Central Pow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07 – Britain, France and Russia sign the Triple Entente become known as the Allied Power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lianc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 descr=""/>
          <p:cNvPicPr/>
          <p:nvPr/>
        </p:nvPicPr>
        <p:blipFill>
          <a:blip r:embed="rId2"/>
          <a:stretch/>
        </p:blipFill>
        <p:spPr>
          <a:xfrm>
            <a:off x="1676520" y="1828800"/>
            <a:ext cx="6095880" cy="4403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of Alliance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9140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ly Britain had tried not to get involved in European affairs – “Splendid Iso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ain worried about German plans for expansion – begins co-operating with France furth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e and Russia both concerned about German thre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worried about being “encircled” by France and Russia – further concerned when they become allies with Brit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tria has internal problem with a fragmented empire. Germany provided secur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ly ambitious to expan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lance of Power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1914 all the major powers were linked by a system of alli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theory was power was evenly spread between the Alliances and would be a </a:t>
            </a:r>
            <a:r>
              <a:rPr b="1" i="1" lang="en-GB" sz="3200" spc="-1" strike="noStrike">
                <a:solidFill>
                  <a:srgbClr val="000000"/>
                </a:solidFill>
                <a:latin typeface="Times New Roman"/>
              </a:rPr>
              <a:t>deterrent</a:t>
            </a:r>
            <a:r>
              <a:rPr b="0" lang="en-GB" sz="3200" spc="-1" strike="noStrike">
                <a:solidFill>
                  <a:srgbClr val="000000"/>
                </a:solidFill>
                <a:latin typeface="Times New Roman"/>
              </a:rPr>
              <a:t> to war – which would be drawn out and hard to w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EVER this plan didn’t work in practise: </a:t>
            </a:r>
            <a:r>
              <a:rPr b="0" i="1" lang="en-GB" sz="3200" spc="-1" strike="noStrike">
                <a:solidFill>
                  <a:srgbClr val="000000"/>
                </a:solidFill>
                <a:latin typeface="Times New Roman"/>
              </a:rPr>
              <a:t>remember the Blackadder cl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ce started, the Alliances made war escalate and spread faster across Europ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762120" y="801720"/>
            <a:ext cx="7696080" cy="5307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Thing Leads to Another</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ria-Hungary declare war on Serb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ssia comes to </a:t>
            </a:r>
            <a:r>
              <a:rPr b="0" lang="en-GB" sz="3200" spc="-1" strike="noStrike">
                <a:solidFill>
                  <a:srgbClr val="000000"/>
                </a:solidFill>
                <a:latin typeface="Times New Roman"/>
              </a:rPr>
              <a:t>Serbia’s</a:t>
            </a:r>
            <a:r>
              <a:rPr b="0" lang="en-US" sz="3200" spc="-1" strike="noStrike">
                <a:solidFill>
                  <a:srgbClr val="000000"/>
                </a:solidFill>
                <a:latin typeface="Times New Roman"/>
              </a:rPr>
              <a:t> def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allied to Austria-Hungary declares war on 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bound by treaty to Russia, finds itself at war with Germany &amp; Austria-Hung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enters the war due to the German invasion of BELGIUM (75 yr old trea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onalism</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99072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eling of pride in one’s country, and a desire for  it to be strong and powerfu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culture and rulers with the same cul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an aspiration to be independent if ruled by another coun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14 Nationalism causing problem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Nations starting to demand independ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aused intense rivalry over colonies, trade and pow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457200" y="152280"/>
            <a:ext cx="8305920" cy="6881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Land of Hope and Glor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mother of the fre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God who made thee might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make thee mightier ye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The words of Land of Hope and Glory, written by the English composer Elgar</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Germany, Germany above a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over everything in the world,</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When it steadfastly holds together,</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offensively and defensivel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The words of the German national anthe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 </a:t>
            </a:r>
            <a:r>
              <a:rPr b="1" i="1" lang="en-US" sz="2200" spc="-1" strike="noStrike">
                <a:solidFill>
                  <a:srgbClr val="808080"/>
                </a:solidFill>
                <a:latin typeface="Times New Roman"/>
              </a:rPr>
              <a:t>Deutschland uber All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ld an unstable place by 191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had been the world’s richest and most powerful nation – industrialisation, colo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14 balance of power beginning to shift in the world ord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alkan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unstable area where different nationalities mixed toge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ustria and Russia wanted more power and influence 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08 – Austria takes over Bosnia and Herzegovina with the backing of Germ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bia emerges as a force in the area which concerns Austria. Eventually leads to war after assassination of Archdu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ism a major factor in the region’s probl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rialism</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erialism</a:t>
            </a:r>
            <a:r>
              <a:rPr b="0" lang="en-US" sz="3200" spc="-1" strike="noStrike">
                <a:solidFill>
                  <a:srgbClr val="000000"/>
                </a:solidFill>
                <a:latin typeface="Times New Roman"/>
              </a:rPr>
              <a:t> occurs when a strong nation takes over a weaker nation or region and dominates its economic, political, or cultural lif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3017880"/>
            <a:ext cx="9144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6" name="" descr=""/>
          <p:cNvPicPr/>
          <p:nvPr/>
        </p:nvPicPr>
        <p:blipFill>
          <a:blip r:embed="rId2"/>
          <a:stretch/>
        </p:blipFill>
        <p:spPr>
          <a:xfrm>
            <a:off x="914400" y="609480"/>
            <a:ext cx="7391520" cy="5268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447920" y="152280"/>
            <a:ext cx="6172200" cy="4489560"/>
          </a:xfrm>
          <a:prstGeom prst="rect">
            <a:avLst/>
          </a:prstGeom>
          <a:ln w="0">
            <a:noFill/>
          </a:ln>
        </p:spPr>
      </p:pic>
      <p:sp>
        <p:nvSpPr>
          <p:cNvPr id="88" name=""/>
          <p:cNvSpPr/>
          <p:nvPr/>
        </p:nvSpPr>
        <p:spPr>
          <a:xfrm>
            <a:off x="1447920" y="52578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cartoon suggesting?</a:t>
            </a:r>
            <a:endParaRPr b="0" lang="en-US" sz="3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occo Crisi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5 - Kaiser supports independence for Morocco to side against the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keen to be seen as a major power in Nth Afric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1 – Conference gives France control of Morocco after another stand off with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awarded land in central Africa as compens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ain and France agree to patrol waters around Fr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erialism creates crisi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92" name="PlaceHolder 2"/>
          <p:cNvSpPr>
            <a:spLocks noGrp="1"/>
          </p:cNvSpPr>
          <p:nvPr>
            <p:ph/>
          </p:nvPr>
        </p:nvSpPr>
        <p:spPr>
          <a:xfrm>
            <a:off x="609480" y="1219320"/>
            <a:ext cx="7772400" cy="48765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mportant to distinguish short term causes eg the murder of Archduke Franz Ferdinand, and long term causes such as imperialism, nationalism etc</a:t>
            </a:r>
            <a:endParaRPr b="0" lang="en-US" sz="3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onger term factors are all inextricably linked eg nationalism can lead to imperialism which in turn created further tension for an arms race between countries. Alliances were then formed for security due to these threats</a:t>
            </a:r>
            <a:endParaRPr b="0" lang="en-US" sz="3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ituation had been very tense for some time in Europe and it was only a matter of time before this tension boiled over</a:t>
            </a:r>
            <a:endParaRPr b="0" lang="en-US" sz="3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1600200" y="380880"/>
            <a:ext cx="5486400" cy="586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 USA overtaking Britain as industrial power – car and steel manufactur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wanted to further expand around the globe with more colon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European countries saw Germany a potential aggress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e the situation by 1914 in Europe very unsettle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jor Causes of WW1</a:t>
            </a:r>
            <a:endParaRPr b="0" lang="en-US" sz="4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M</a:t>
            </a:r>
            <a:r>
              <a:rPr b="0" lang="en-GB" sz="4400" spc="-1" strike="noStrike">
                <a:solidFill>
                  <a:srgbClr val="000000"/>
                </a:solidFill>
                <a:latin typeface="Times New Roman"/>
              </a:rPr>
              <a:t>ilitarism</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A</a:t>
            </a:r>
            <a:r>
              <a:rPr b="0" lang="en-GB" sz="4400" spc="-1" strike="noStrike">
                <a:solidFill>
                  <a:srgbClr val="000000"/>
                </a:solidFill>
                <a:latin typeface="Times New Roman"/>
              </a:rPr>
              <a:t>lliances</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I</a:t>
            </a:r>
            <a:r>
              <a:rPr b="0" lang="en-GB" sz="4400" spc="-1" strike="noStrike">
                <a:solidFill>
                  <a:srgbClr val="000000"/>
                </a:solidFill>
                <a:latin typeface="Times New Roman"/>
              </a:rPr>
              <a:t>mperialism</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N</a:t>
            </a:r>
            <a:r>
              <a:rPr b="0" lang="en-GB" sz="4400" spc="-1" strike="noStrike">
                <a:solidFill>
                  <a:srgbClr val="000000"/>
                </a:solidFill>
                <a:latin typeface="Times New Roman"/>
              </a:rPr>
              <a:t>ationalism</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505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to an arms race between the main Count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y was competing with the UK to build battleship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2"/>
          <a:stretch/>
        </p:blipFill>
        <p:spPr>
          <a:xfrm>
            <a:off x="4648320" y="1752480"/>
            <a:ext cx="3809880" cy="44960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52"/>
                                        </p:tgtEl>
                                        <p:attrNameLst>
                                          <p:attrName>style.visibility</p:attrName>
                                        </p:attrNameLst>
                                      </p:cBhvr>
                                      <p:to>
                                        <p:strVal val="visible"/>
                                      </p:to>
                                    </p:set>
                                    <p:animEffect filter="dissolve" transition="in">
                                      <p:cBhvr additive="repl">
                                        <p:cTn id="1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8640"/>
            <a:ext cx="77724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4" name=""/>
          <p:cNvGraphicFramePr/>
          <p:nvPr/>
        </p:nvGraphicFramePr>
        <p:xfrm>
          <a:off x="1187280" y="1773360"/>
          <a:ext cx="6840720" cy="4319640"/>
        </p:xfrm>
        <a:graphic>
          <a:graphicData uri="http://schemas.openxmlformats.org/presentationml/2006/ole">
            <p:oleObj progId="Excel.Sheet.12" r:id="rId2" spid="">
              <p:embed/>
              <p:pic>
                <p:nvPicPr>
                  <p:cNvPr id="55" name="" descr=""/>
                  <p:cNvPicPr/>
                  <p:nvPr/>
                </p:nvPicPr>
                <p:blipFill>
                  <a:blip r:embed="rId3"/>
                  <a:stretch/>
                </p:blipFill>
                <p:spPr>
                  <a:xfrm>
                    <a:off x="1187280" y="1773360"/>
                    <a:ext cx="6840720" cy="4319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ermany was competing with Russia and France to expand its Army</a:t>
            </a:r>
            <a:endParaRPr b="0" lang="en-US" sz="3600" spc="-1" strike="noStrike">
              <a:solidFill>
                <a:srgbClr val="000000"/>
              </a:solidFill>
              <a:latin typeface="Times New Roman"/>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25800" indent="-32580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ritain had the smallest Army of all the major powers</a:t>
            </a:r>
            <a:endParaRPr b="0" lang="en-US" sz="3600" spc="-1" strike="noStrike">
              <a:solidFill>
                <a:srgbClr val="000000"/>
              </a:solidFill>
              <a:latin typeface="Times New Roman"/>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95444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95444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55640" y="260280"/>
            <a:ext cx="7561440" cy="5040360"/>
          </a:xfrm>
          <a:prstGeom prst="rect">
            <a:avLst/>
          </a:prstGeom>
          <a:ln w="0">
            <a:noFill/>
          </a:ln>
        </p:spPr>
      </p:pic>
      <p:sp>
        <p:nvSpPr>
          <p:cNvPr id="59" name=""/>
          <p:cNvSpPr/>
          <p:nvPr/>
        </p:nvSpPr>
        <p:spPr>
          <a:xfrm>
            <a:off x="755640" y="5877000"/>
            <a:ext cx="734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NOTE:</a:t>
            </a:r>
            <a:r>
              <a:rPr b="0" i="1" lang="en-US" sz="1400" spc="-1" strike="noStrike">
                <a:solidFill>
                  <a:srgbClr val="000000"/>
                </a:solidFill>
                <a:latin typeface="Times New Roman"/>
              </a:rPr>
              <a:t> Figures are approximate</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1219320" y="0"/>
            <a:ext cx="6705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971640" y="189000"/>
            <a:ext cx="7010280" cy="384876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is a young and growing empire. She takes part in trade that is rapidly expanding. Germany must have a powerful fleet to protect that trade. She must be able to fight for her interests in any part of the world. Only those powers with great navies will be listened to with respect</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iser Wilhelm II in an interview published in the British newspaper The Daily Telegraph, November 1908</a:t>
            </a:r>
            <a:endParaRPr b="0" lang="en-US" sz="2000" spc="-1" strike="noStrike">
              <a:solidFill>
                <a:srgbClr val="000000"/>
              </a:solidFill>
              <a:latin typeface="Times New Roman"/>
            </a:endParaRPr>
          </a:p>
        </p:txBody>
      </p:sp>
      <p:pic>
        <p:nvPicPr>
          <p:cNvPr id="62" name="" descr=""/>
          <p:cNvPicPr/>
          <p:nvPr/>
        </p:nvPicPr>
        <p:blipFill>
          <a:blip r:embed="rId2"/>
          <a:stretch/>
        </p:blipFill>
        <p:spPr>
          <a:xfrm>
            <a:off x="3348000" y="4149720"/>
            <a:ext cx="2232000" cy="259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05:25:36Z</dcterms:created>
  <dc:creator>dansblee</dc:creator>
  <dc:description/>
  <dc:language>en-US</dc:language>
  <cp:lastModifiedBy>russell</cp:lastModifiedBy>
  <dcterms:modified xsi:type="dcterms:W3CDTF">2010-01-14T09:20:38Z</dcterms:modified>
  <cp:revision>10</cp:revision>
  <dc:subject/>
  <dc:title>World War One</dc:title>
</cp:coreProperties>
</file>